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A558-EC9A-4FE4-9851-3E41FBB6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CAA9-3514-4007-8553-63DDE60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6535-8804-439B-A5CA-5AB02DCB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F970-495E-4DA9-81D8-E48EE57E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9FA5-B8EB-4A30-ABC0-CABF4C4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EC00-D826-4A75-AAA3-E6BE0EE1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4010-2355-44AA-8930-0D37B1C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E6C6-499F-4A98-BF45-7DE6E29B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6EC6-E5F5-4640-B6D2-B73533C9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2B6B-5CEB-4339-BA5D-B927E37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70C7-4080-4E6E-A21D-0E2DB2E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CFCA-C2CD-4BA9-9E2A-EB9F352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C1A-A660-43EF-AD9B-DBFA5D397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1671480" y="1752480"/>
          <a:ext cx="5405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752480"/>
                    <a:ext cx="5405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10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 to mole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 time we use 2 moles of 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e make 3 moles of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8" name="Group 11"/>
          <p:cNvGrpSpPr/>
          <p:nvPr/>
        </p:nvGrpSpPr>
        <p:grpSpPr>
          <a:xfrm>
            <a:off x="1219320" y="3440160"/>
            <a:ext cx="2744640" cy="980640"/>
            <a:chOff x="1219320" y="3440160"/>
            <a:chExt cx="2744640" cy="980640"/>
          </a:xfrm>
        </p:grpSpPr>
        <p:grpSp>
          <p:nvGrpSpPr>
            <p:cNvPr id="239" name="Group 6"/>
            <p:cNvGrpSpPr/>
            <p:nvPr/>
          </p:nvGrpSpPr>
          <p:grpSpPr>
            <a:xfrm>
              <a:off x="3719520" y="3440160"/>
              <a:ext cx="244440" cy="980640"/>
              <a:chOff x="3719520" y="3440160"/>
              <a:chExt cx="244440" cy="980640"/>
            </a:xfrm>
          </p:grpSpPr>
          <p:sp>
            <p:nvSpPr>
              <p:cNvPr id="240" name="Arc 4"/>
              <p:cNvSpPr/>
              <p:nvPr/>
            </p:nvSpPr>
            <p:spPr>
              <a:xfrm rot="10800000">
                <a:off x="3722760" y="389700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Arc 5"/>
              <p:cNvSpPr/>
              <p:nvPr/>
            </p:nvSpPr>
            <p:spPr>
              <a:xfrm>
                <a:off x="3719520" y="344016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9"/>
            <p:cNvGrpSpPr/>
            <p:nvPr/>
          </p:nvGrpSpPr>
          <p:grpSpPr>
            <a:xfrm>
              <a:off x="1219320" y="3440160"/>
              <a:ext cx="244440" cy="980640"/>
              <a:chOff x="1219320" y="3440160"/>
              <a:chExt cx="244440" cy="980640"/>
            </a:xfrm>
          </p:grpSpPr>
          <p:sp>
            <p:nvSpPr>
              <p:cNvPr id="243" name="Arc 7"/>
              <p:cNvSpPr/>
              <p:nvPr/>
            </p:nvSpPr>
            <p:spPr>
              <a:xfrm rot="10800000">
                <a:off x="1219320" y="389700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4" name="Arc 8"/>
              <p:cNvSpPr/>
              <p:nvPr/>
            </p:nvSpPr>
            <p:spPr>
              <a:xfrm>
                <a:off x="1220760" y="344016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Line 10"/>
            <p:cNvSpPr/>
            <p:nvPr/>
          </p:nvSpPr>
          <p:spPr>
            <a:xfrm>
              <a:off x="1541520" y="392904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6" name="Rectangle 12"/>
          <p:cNvSpPr/>
          <p:nvPr/>
        </p:nvSpPr>
        <p:spPr>
          <a:xfrm>
            <a:off x="1339920" y="332280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666080" y="393228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402440" y="362736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5105520" y="3516480"/>
            <a:ext cx="2744640" cy="980640"/>
            <a:chOff x="5105520" y="3516480"/>
            <a:chExt cx="2744640" cy="980640"/>
          </a:xfrm>
        </p:grpSpPr>
        <p:grpSp>
          <p:nvGrpSpPr>
            <p:cNvPr id="250" name="Group 17"/>
            <p:cNvGrpSpPr/>
            <p:nvPr/>
          </p:nvGrpSpPr>
          <p:grpSpPr>
            <a:xfrm>
              <a:off x="7605720" y="3516480"/>
              <a:ext cx="244440" cy="980640"/>
              <a:chOff x="7605720" y="3516480"/>
              <a:chExt cx="244440" cy="980640"/>
            </a:xfrm>
          </p:grpSpPr>
          <p:sp>
            <p:nvSpPr>
              <p:cNvPr id="251" name="Arc 15"/>
              <p:cNvSpPr/>
              <p:nvPr/>
            </p:nvSpPr>
            <p:spPr>
              <a:xfrm rot="10800000">
                <a:off x="7608960" y="397332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2" name="Arc 16"/>
              <p:cNvSpPr/>
              <p:nvPr/>
            </p:nvSpPr>
            <p:spPr>
              <a:xfrm>
                <a:off x="7605720" y="351648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0"/>
            <p:cNvGrpSpPr/>
            <p:nvPr/>
          </p:nvGrpSpPr>
          <p:grpSpPr>
            <a:xfrm>
              <a:off x="5105520" y="3516480"/>
              <a:ext cx="244440" cy="980640"/>
              <a:chOff x="5105520" y="3516480"/>
              <a:chExt cx="244440" cy="980640"/>
            </a:xfrm>
          </p:grpSpPr>
          <p:sp>
            <p:nvSpPr>
              <p:cNvPr id="254" name="Arc 18"/>
              <p:cNvSpPr/>
              <p:nvPr/>
            </p:nvSpPr>
            <p:spPr>
              <a:xfrm rot="10800000">
                <a:off x="5105520" y="3973320"/>
                <a:ext cx="2412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Arc 19"/>
              <p:cNvSpPr/>
              <p:nvPr/>
            </p:nvSpPr>
            <p:spPr>
              <a:xfrm>
                <a:off x="5106960" y="3516480"/>
                <a:ext cx="2430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Line 21"/>
            <p:cNvSpPr/>
            <p:nvPr/>
          </p:nvSpPr>
          <p:spPr>
            <a:xfrm>
              <a:off x="5427720" y="400536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57" name="Rectangle 23"/>
          <p:cNvSpPr/>
          <p:nvPr/>
        </p:nvSpPr>
        <p:spPr>
          <a:xfrm>
            <a:off x="5226120" y="400860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5552280" y="339876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 to Mole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produced when 3.34 moles of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com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88880" y="3551400"/>
            <a:ext cx="2635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34 mol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3123720" y="3668760"/>
            <a:ext cx="2745000" cy="980640"/>
            <a:chOff x="3123720" y="3668760"/>
            <a:chExt cx="2745000" cy="980640"/>
          </a:xfrm>
        </p:grpSpPr>
        <p:grpSp>
          <p:nvGrpSpPr>
            <p:cNvPr id="263" name="Group 7"/>
            <p:cNvGrpSpPr/>
            <p:nvPr/>
          </p:nvGrpSpPr>
          <p:grpSpPr>
            <a:xfrm>
              <a:off x="5624640" y="3668760"/>
              <a:ext cx="244080" cy="980640"/>
              <a:chOff x="5624640" y="3668760"/>
              <a:chExt cx="244080" cy="980640"/>
            </a:xfrm>
          </p:grpSpPr>
          <p:sp>
            <p:nvSpPr>
              <p:cNvPr id="264" name="Arc 5"/>
              <p:cNvSpPr/>
              <p:nvPr/>
            </p:nvSpPr>
            <p:spPr>
              <a:xfrm rot="10800000">
                <a:off x="5627160" y="4125600"/>
                <a:ext cx="24156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Arc 6"/>
              <p:cNvSpPr/>
              <p:nvPr/>
            </p:nvSpPr>
            <p:spPr>
              <a:xfrm>
                <a:off x="5624640" y="3668760"/>
                <a:ext cx="2426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123720" y="3668760"/>
              <a:ext cx="244800" cy="980640"/>
              <a:chOff x="3123720" y="3668760"/>
              <a:chExt cx="244800" cy="980640"/>
            </a:xfrm>
          </p:grpSpPr>
          <p:sp>
            <p:nvSpPr>
              <p:cNvPr id="267" name="Arc 8"/>
              <p:cNvSpPr/>
              <p:nvPr/>
            </p:nvSpPr>
            <p:spPr>
              <a:xfrm rot="10800000">
                <a:off x="3123720" y="4125600"/>
                <a:ext cx="24156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Arc 9"/>
              <p:cNvSpPr/>
              <p:nvPr/>
            </p:nvSpPr>
            <p:spPr>
              <a:xfrm>
                <a:off x="3125880" y="3668760"/>
                <a:ext cx="2426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Line 11"/>
            <p:cNvSpPr/>
            <p:nvPr/>
          </p:nvSpPr>
          <p:spPr>
            <a:xfrm>
              <a:off x="3446640" y="4157640"/>
              <a:ext cx="2097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70" name="Rectangle 13"/>
          <p:cNvSpPr/>
          <p:nvPr/>
        </p:nvSpPr>
        <p:spPr>
          <a:xfrm>
            <a:off x="3245040" y="4160880"/>
            <a:ext cx="250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571200" y="3551400"/>
            <a:ext cx="185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mole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875920" y="378000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260760" y="3780000"/>
            <a:ext cx="2489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.01 moles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3.84 moles of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, how many moles of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need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needed to produce 8.95 mole of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ss in Chemical Reaction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much do you mak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much do you ne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can’t measure moles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can we d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convert grams to mo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n use moles to change chemic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lanced eq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n turn the moles back to gram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7"/>
          <p:cNvSpPr/>
          <p:nvPr/>
        </p:nvSpPr>
        <p:spPr>
          <a:xfrm>
            <a:off x="1219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3" name="Group 34"/>
          <p:cNvGrpSpPr/>
          <p:nvPr/>
        </p:nvGrpSpPr>
        <p:grpSpPr>
          <a:xfrm>
            <a:off x="2514600" y="2666880"/>
            <a:ext cx="1676520" cy="1600200"/>
            <a:chOff x="2514600" y="2666880"/>
            <a:chExt cx="1676520" cy="1600200"/>
          </a:xfrm>
        </p:grpSpPr>
        <p:sp>
          <p:nvSpPr>
            <p:cNvPr id="284" name="Rectangle 29"/>
            <p:cNvSpPr/>
            <p:nvPr/>
          </p:nvSpPr>
          <p:spPr>
            <a:xfrm>
              <a:off x="251460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Text Box 15"/>
            <p:cNvSpPr/>
            <p:nvPr/>
          </p:nvSpPr>
          <p:spPr>
            <a:xfrm>
              <a:off x="274320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oles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6" name="Group 33"/>
          <p:cNvGrpSpPr/>
          <p:nvPr/>
        </p:nvGrpSpPr>
        <p:grpSpPr>
          <a:xfrm>
            <a:off x="4800600" y="2666880"/>
            <a:ext cx="1676520" cy="1600200"/>
            <a:chOff x="4800600" y="2666880"/>
            <a:chExt cx="1676520" cy="1600200"/>
          </a:xfrm>
        </p:grpSpPr>
        <p:sp>
          <p:nvSpPr>
            <p:cNvPr id="287" name="Rectangle 30"/>
            <p:cNvSpPr/>
            <p:nvPr/>
          </p:nvSpPr>
          <p:spPr>
            <a:xfrm>
              <a:off x="480060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502920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olesB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9" name="Group 32"/>
          <p:cNvGrpSpPr/>
          <p:nvPr/>
        </p:nvGrpSpPr>
        <p:grpSpPr>
          <a:xfrm>
            <a:off x="7010280" y="2666880"/>
            <a:ext cx="1676520" cy="1600200"/>
            <a:chOff x="7010280" y="2666880"/>
            <a:chExt cx="1676520" cy="1600200"/>
          </a:xfrm>
        </p:grpSpPr>
        <p:sp>
          <p:nvSpPr>
            <p:cNvPr id="290" name="Rectangle 31"/>
            <p:cNvSpPr/>
            <p:nvPr/>
          </p:nvSpPr>
          <p:spPr>
            <a:xfrm>
              <a:off x="701028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723888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ass</a:t>
              </a:r>
              <a:br>
                <a:rPr sz="3200"/>
              </a:b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 B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2" name="Text Box 24"/>
          <p:cNvSpPr/>
          <p:nvPr/>
        </p:nvSpPr>
        <p:spPr>
          <a:xfrm>
            <a:off x="5791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715000" y="1828800"/>
            <a:ext cx="2209680" cy="838080"/>
          </a:xfrm>
          <a:custGeom>
            <a:avLst/>
            <a:gdLst>
              <a:gd name="textAreaLeft" fmla="*/ 426600 w 2209680"/>
              <a:gd name="textAreaRight" fmla="*/ 1535400 w 22096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3581280" y="6858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lanced Equ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3581280" y="1828800"/>
            <a:ext cx="2210040" cy="838080"/>
          </a:xfrm>
          <a:custGeom>
            <a:avLst/>
            <a:gdLst>
              <a:gd name="textAreaLeft" fmla="*/ 426600 w 2210040"/>
              <a:gd name="textAreaRight" fmla="*/ 1535760 w 22100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6" name="Group 35"/>
          <p:cNvGrpSpPr/>
          <p:nvPr/>
        </p:nvGrpSpPr>
        <p:grpSpPr>
          <a:xfrm>
            <a:off x="380880" y="2666880"/>
            <a:ext cx="1676520" cy="1600200"/>
            <a:chOff x="380880" y="2666880"/>
            <a:chExt cx="1676520" cy="1600200"/>
          </a:xfrm>
        </p:grpSpPr>
        <p:sp>
          <p:nvSpPr>
            <p:cNvPr id="297" name="Rectangle 28"/>
            <p:cNvSpPr/>
            <p:nvPr/>
          </p:nvSpPr>
          <p:spPr>
            <a:xfrm>
              <a:off x="380880" y="2666880"/>
              <a:ext cx="1676520" cy="1600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9480" y="293364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Mass</a:t>
              </a:r>
              <a:br>
                <a:rPr sz="3200"/>
              </a:b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 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9" name="AutoShape 37"/>
          <p:cNvSpPr/>
          <p:nvPr/>
        </p:nvSpPr>
        <p:spPr>
          <a:xfrm>
            <a:off x="1219320" y="1828800"/>
            <a:ext cx="2209680" cy="838080"/>
          </a:xfrm>
          <a:custGeom>
            <a:avLst/>
            <a:gdLst>
              <a:gd name="textAreaLeft" fmla="*/ 426600 w 2209680"/>
              <a:gd name="textAreaRight" fmla="*/ 1535400 w 22096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1" hR="21600" stAng="10800000" swAng="5400000"/>
                <a:lnTo>
                  <a:pt x="10839" y="0"/>
                </a:lnTo>
                <a:arcTo wR="8341" hR="21600" stAng="-5400000" swAng="2351529"/>
                <a:lnTo>
                  <a:pt x="20797" y="12355"/>
                </a:lnTo>
                <a:lnTo>
                  <a:pt x="17930" y="21600"/>
                </a:lnTo>
                <a:lnTo>
                  <a:pt x="13457" y="12355"/>
                </a:lnTo>
                <a:lnTo>
                  <a:pt x="15878" y="12355"/>
                </a:lnTo>
                <a:arcTo wR="8341" hR="21600" stAng="-3048471" swAng="-2150706"/>
                <a:lnTo>
                  <a:pt x="9590" y="244"/>
                </a:lnTo>
                <a:arcTo wR="8341" hR="21600" stAng="-5600823" swAng="-5199177"/>
                <a:close/>
              </a:path>
              <a:path fill="darkenLess" w="21600" h="21600">
                <a:moveTo>
                  <a:pt x="0" y="21600"/>
                </a:moveTo>
                <a:arcTo wR="8341" hR="21600" stAng="10800000" swAng="5400000"/>
                <a:lnTo>
                  <a:pt x="8341" y="0"/>
                </a:lnTo>
                <a:arcTo wR="8341" hR="21600" stAng="-5400000" swAng="200823"/>
                <a:lnTo>
                  <a:pt x="9590" y="244"/>
                </a:lnTo>
                <a:arcTo wR="8341" hR="21600" stAng="-5600823" swAng="-5199177"/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Text Box 39"/>
          <p:cNvSpPr/>
          <p:nvPr/>
        </p:nvSpPr>
        <p:spPr>
          <a:xfrm>
            <a:off x="685800" y="44956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ide where to start based on the units you are give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stop based on what unit you are asked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needed to produce 8.95 g of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4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2.47 moles of C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, how many g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form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example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1 g of Fe are added to a solution of Copper (II) Sulfate, how much solid copper would for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 + 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Cu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Fe + 3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Cu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363960" y="4389480"/>
            <a:ext cx="189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.1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8" name="Group 14"/>
          <p:cNvGrpSpPr/>
          <p:nvPr/>
        </p:nvGrpSpPr>
        <p:grpSpPr>
          <a:xfrm>
            <a:off x="2135160" y="4267080"/>
            <a:ext cx="2208240" cy="1219320"/>
            <a:chOff x="2135160" y="4267080"/>
            <a:chExt cx="2208240" cy="1219320"/>
          </a:xfrm>
        </p:grpSpPr>
        <p:sp>
          <p:nvSpPr>
            <p:cNvPr id="309" name="Arc 15"/>
            <p:cNvSpPr/>
            <p:nvPr/>
          </p:nvSpPr>
          <p:spPr>
            <a:xfrm>
              <a:off x="2135160" y="4267080"/>
              <a:ext cx="3160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Arc 16"/>
            <p:cNvSpPr/>
            <p:nvPr/>
          </p:nvSpPr>
          <p:spPr>
            <a:xfrm>
              <a:off x="4025880" y="4267080"/>
              <a:ext cx="3175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238480" y="4876920"/>
              <a:ext cx="2000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2" name="Rectangle 18"/>
          <p:cNvSpPr/>
          <p:nvPr/>
        </p:nvSpPr>
        <p:spPr>
          <a:xfrm>
            <a:off x="2250000" y="4846680"/>
            <a:ext cx="212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5.85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78800" y="431316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4" name="Group 20"/>
          <p:cNvGrpSpPr/>
          <p:nvPr/>
        </p:nvGrpSpPr>
        <p:grpSpPr>
          <a:xfrm>
            <a:off x="4344840" y="4267080"/>
            <a:ext cx="1905120" cy="1219320"/>
            <a:chOff x="4344840" y="4267080"/>
            <a:chExt cx="1905120" cy="1219320"/>
          </a:xfrm>
        </p:grpSpPr>
        <p:sp>
          <p:nvSpPr>
            <p:cNvPr id="315" name="Arc 21"/>
            <p:cNvSpPr/>
            <p:nvPr/>
          </p:nvSpPr>
          <p:spPr>
            <a:xfrm>
              <a:off x="4344840" y="42670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Arc 22"/>
            <p:cNvSpPr/>
            <p:nvPr/>
          </p:nvSpPr>
          <p:spPr>
            <a:xfrm>
              <a:off x="5975280" y="42670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Line 23"/>
            <p:cNvSpPr/>
            <p:nvPr/>
          </p:nvSpPr>
          <p:spPr>
            <a:xfrm>
              <a:off x="4433760" y="48769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8" name="Rectangle 24"/>
          <p:cNvSpPr/>
          <p:nvPr/>
        </p:nvSpPr>
        <p:spPr>
          <a:xfrm>
            <a:off x="4402800" y="484668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4403880" y="43894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6249960" y="4267080"/>
            <a:ext cx="2362320" cy="1219320"/>
            <a:chOff x="6249960" y="4267080"/>
            <a:chExt cx="2362320" cy="1219320"/>
          </a:xfrm>
        </p:grpSpPr>
        <p:sp>
          <p:nvSpPr>
            <p:cNvPr id="321" name="Arc 27"/>
            <p:cNvSpPr/>
            <p:nvPr/>
          </p:nvSpPr>
          <p:spPr>
            <a:xfrm>
              <a:off x="6249960" y="4267080"/>
              <a:ext cx="3380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Arc 28"/>
            <p:cNvSpPr/>
            <p:nvPr/>
          </p:nvSpPr>
          <p:spPr>
            <a:xfrm>
              <a:off x="8272440" y="4267080"/>
              <a:ext cx="3398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6359400" y="487692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4" name="Rectangle 30"/>
          <p:cNvSpPr/>
          <p:nvPr/>
        </p:nvSpPr>
        <p:spPr>
          <a:xfrm>
            <a:off x="6461280" y="48466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6383880" y="431316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5524560" y="574524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33"/>
          <p:cNvSpPr/>
          <p:nvPr/>
        </p:nvSpPr>
        <p:spPr>
          <a:xfrm>
            <a:off x="5828400" y="574524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2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ek for “measuring elements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lculations of quantities in chemical reactions based on a balanced equatio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interpret balanced chemical equations several way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Fe + 3Cu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e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3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71040" y="2103480"/>
            <a:ext cx="2553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18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3201840" y="1752480"/>
            <a:ext cx="2284560" cy="1219320"/>
            <a:chOff x="3201840" y="1752480"/>
            <a:chExt cx="2284560" cy="1219320"/>
          </a:xfrm>
        </p:grpSpPr>
        <p:sp>
          <p:nvSpPr>
            <p:cNvPr id="331" name="Arc 4"/>
            <p:cNvSpPr/>
            <p:nvPr/>
          </p:nvSpPr>
          <p:spPr>
            <a:xfrm>
              <a:off x="3201840" y="1752480"/>
              <a:ext cx="327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Arc 5"/>
            <p:cNvSpPr/>
            <p:nvPr/>
          </p:nvSpPr>
          <p:spPr>
            <a:xfrm>
              <a:off x="5157720" y="1752480"/>
              <a:ext cx="328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3308400" y="2362320"/>
              <a:ext cx="2070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4" name="Rectangle 8"/>
          <p:cNvSpPr/>
          <p:nvPr/>
        </p:nvSpPr>
        <p:spPr>
          <a:xfrm>
            <a:off x="3489840" y="240840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3413160" y="17985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5470560" y="210348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5776560" y="2027160"/>
            <a:ext cx="259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272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747360" y="4084560"/>
            <a:ext cx="259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272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278160" y="3733920"/>
            <a:ext cx="2362320" cy="1218960"/>
            <a:chOff x="3278160" y="3733920"/>
            <a:chExt cx="2362320" cy="1218960"/>
          </a:xfrm>
        </p:grpSpPr>
        <p:sp>
          <p:nvSpPr>
            <p:cNvPr id="340" name="Arc 13"/>
            <p:cNvSpPr/>
            <p:nvPr/>
          </p:nvSpPr>
          <p:spPr>
            <a:xfrm>
              <a:off x="3278160" y="3733920"/>
              <a:ext cx="338040" cy="121896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Arc 14"/>
            <p:cNvSpPr/>
            <p:nvPr/>
          </p:nvSpPr>
          <p:spPr>
            <a:xfrm>
              <a:off x="5300640" y="3733920"/>
              <a:ext cx="339840" cy="121896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3387600" y="434340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3" name="Rectangle 17"/>
          <p:cNvSpPr/>
          <p:nvPr/>
        </p:nvSpPr>
        <p:spPr>
          <a:xfrm>
            <a:off x="3489480" y="43131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3414240" y="378000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5622840" y="408456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6080400" y="408456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3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5956200" y="3594240"/>
            <a:ext cx="2260800" cy="14223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ld have done 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6120" y="2103480"/>
            <a:ext cx="189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.1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0" name="Group 7"/>
          <p:cNvGrpSpPr/>
          <p:nvPr/>
        </p:nvGrpSpPr>
        <p:grpSpPr>
          <a:xfrm>
            <a:off x="2135160" y="1981080"/>
            <a:ext cx="2208240" cy="1219320"/>
            <a:chOff x="2135160" y="1981080"/>
            <a:chExt cx="2208240" cy="1219320"/>
          </a:xfrm>
        </p:grpSpPr>
        <p:sp>
          <p:nvSpPr>
            <p:cNvPr id="351" name="Arc 4"/>
            <p:cNvSpPr/>
            <p:nvPr/>
          </p:nvSpPr>
          <p:spPr>
            <a:xfrm>
              <a:off x="2135160" y="1981080"/>
              <a:ext cx="3160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Arc 5"/>
            <p:cNvSpPr/>
            <p:nvPr/>
          </p:nvSpPr>
          <p:spPr>
            <a:xfrm>
              <a:off x="4025880" y="1981080"/>
              <a:ext cx="3175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2238480" y="2590920"/>
              <a:ext cx="2000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Rectangle 8"/>
          <p:cNvSpPr/>
          <p:nvPr/>
        </p:nvSpPr>
        <p:spPr>
          <a:xfrm>
            <a:off x="2252160" y="2560680"/>
            <a:ext cx="212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5.85 g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2280240" y="202716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6" name="Group 13"/>
          <p:cNvGrpSpPr/>
          <p:nvPr/>
        </p:nvGrpSpPr>
        <p:grpSpPr>
          <a:xfrm>
            <a:off x="4344840" y="1981080"/>
            <a:ext cx="1905120" cy="1219320"/>
            <a:chOff x="4344840" y="1981080"/>
            <a:chExt cx="1905120" cy="1219320"/>
          </a:xfrm>
        </p:grpSpPr>
        <p:sp>
          <p:nvSpPr>
            <p:cNvPr id="357" name="Arc 10"/>
            <p:cNvSpPr/>
            <p:nvPr/>
          </p:nvSpPr>
          <p:spPr>
            <a:xfrm>
              <a:off x="4344840" y="19810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Arc 11"/>
            <p:cNvSpPr/>
            <p:nvPr/>
          </p:nvSpPr>
          <p:spPr>
            <a:xfrm>
              <a:off x="5975280" y="19810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4433760" y="25909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0" name="Rectangle 14"/>
          <p:cNvSpPr/>
          <p:nvPr/>
        </p:nvSpPr>
        <p:spPr>
          <a:xfrm>
            <a:off x="4404240" y="2560680"/>
            <a:ext cx="176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F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4403880" y="21034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2" name="Group 19"/>
          <p:cNvGrpSpPr/>
          <p:nvPr/>
        </p:nvGrpSpPr>
        <p:grpSpPr>
          <a:xfrm>
            <a:off x="6249960" y="1981080"/>
            <a:ext cx="2362320" cy="1219320"/>
            <a:chOff x="6249960" y="1981080"/>
            <a:chExt cx="2362320" cy="1219320"/>
          </a:xfrm>
        </p:grpSpPr>
        <p:sp>
          <p:nvSpPr>
            <p:cNvPr id="363" name="Arc 16"/>
            <p:cNvSpPr/>
            <p:nvPr/>
          </p:nvSpPr>
          <p:spPr>
            <a:xfrm>
              <a:off x="6249960" y="1981080"/>
              <a:ext cx="3380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Arc 17"/>
            <p:cNvSpPr/>
            <p:nvPr/>
          </p:nvSpPr>
          <p:spPr>
            <a:xfrm>
              <a:off x="8272440" y="1981080"/>
              <a:ext cx="3398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6359400" y="2590920"/>
              <a:ext cx="2140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6" name="Rectangle 20"/>
          <p:cNvSpPr/>
          <p:nvPr/>
        </p:nvSpPr>
        <p:spPr>
          <a:xfrm>
            <a:off x="6461280" y="256068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6386040" y="2027160"/>
            <a:ext cx="217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3.55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5013360" y="400860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5318640" y="4008600"/>
            <a:ext cx="194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3 g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moles of Mg are needed to make 9.3 g of Si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74 g of Mg would make how many moles of Si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make silicon for computer chips they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Mg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S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grams of Mg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produced along with 9.3 g of silic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. S. Space Shuttle boosters use this re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Al(s) + 3 N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Al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 NO + 6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Al must be used to react with 652 g of N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water is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Al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you get good at th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519200" y="1392120"/>
          <a:ext cx="60865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21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476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ses and Rea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can also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ters of a gas to mo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ºC and 1 atmosphere press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22.4 L of a gas  = 1 mo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6.45 grams of water are decomposed, how many liters of oxygen will be produced at STP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70080" y="4846680"/>
            <a:ext cx="2280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45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Group 8"/>
          <p:cNvGrpSpPr/>
          <p:nvPr/>
        </p:nvGrpSpPr>
        <p:grpSpPr>
          <a:xfrm>
            <a:off x="2438280" y="4724280"/>
            <a:ext cx="2286000" cy="1219320"/>
            <a:chOff x="2438280" y="4724280"/>
            <a:chExt cx="2286000" cy="1219320"/>
          </a:xfrm>
        </p:grpSpPr>
        <p:sp>
          <p:nvSpPr>
            <p:cNvPr id="385" name="Arc 5"/>
            <p:cNvSpPr/>
            <p:nvPr/>
          </p:nvSpPr>
          <p:spPr>
            <a:xfrm>
              <a:off x="2438280" y="4724280"/>
              <a:ext cx="327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Arc 6"/>
            <p:cNvSpPr/>
            <p:nvPr/>
          </p:nvSpPr>
          <p:spPr>
            <a:xfrm>
              <a:off x="4395960" y="4724280"/>
              <a:ext cx="32832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2544840" y="5334120"/>
              <a:ext cx="2071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9"/>
          <p:cNvSpPr/>
          <p:nvPr/>
        </p:nvSpPr>
        <p:spPr>
          <a:xfrm>
            <a:off x="2486160" y="5326200"/>
            <a:ext cx="226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8.02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2440800" y="4770360"/>
            <a:ext cx="20491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0" name="Group 14"/>
          <p:cNvGrpSpPr/>
          <p:nvPr/>
        </p:nvGrpSpPr>
        <p:grpSpPr>
          <a:xfrm>
            <a:off x="4724280" y="4724280"/>
            <a:ext cx="1905120" cy="1219320"/>
            <a:chOff x="4724280" y="4724280"/>
            <a:chExt cx="1905120" cy="1219320"/>
          </a:xfrm>
        </p:grpSpPr>
        <p:sp>
          <p:nvSpPr>
            <p:cNvPr id="391" name="Arc 11"/>
            <p:cNvSpPr/>
            <p:nvPr/>
          </p:nvSpPr>
          <p:spPr>
            <a:xfrm>
              <a:off x="4724280" y="4724280"/>
              <a:ext cx="27324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Arc 12"/>
            <p:cNvSpPr/>
            <p:nvPr/>
          </p:nvSpPr>
          <p:spPr>
            <a:xfrm>
              <a:off x="6354720" y="4724280"/>
              <a:ext cx="27468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4813200" y="5334120"/>
              <a:ext cx="1724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94" name="Rectangle 15"/>
          <p:cNvSpPr/>
          <p:nvPr/>
        </p:nvSpPr>
        <p:spPr>
          <a:xfrm>
            <a:off x="4715640" y="532620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2 mol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4793760" y="4770360"/>
            <a:ext cx="17550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6" name="Group 20"/>
          <p:cNvGrpSpPr/>
          <p:nvPr/>
        </p:nvGrpSpPr>
        <p:grpSpPr>
          <a:xfrm>
            <a:off x="6629400" y="4724280"/>
            <a:ext cx="2058840" cy="1219320"/>
            <a:chOff x="6629400" y="4724280"/>
            <a:chExt cx="2058840" cy="1219320"/>
          </a:xfrm>
        </p:grpSpPr>
        <p:sp>
          <p:nvSpPr>
            <p:cNvPr id="397" name="Arc 17"/>
            <p:cNvSpPr/>
            <p:nvPr/>
          </p:nvSpPr>
          <p:spPr>
            <a:xfrm>
              <a:off x="6629400" y="4724280"/>
              <a:ext cx="29520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Arc 18"/>
            <p:cNvSpPr/>
            <p:nvPr/>
          </p:nvSpPr>
          <p:spPr>
            <a:xfrm>
              <a:off x="8393040" y="4724280"/>
              <a:ext cx="295200" cy="1219320"/>
            </a:xfrm>
            <a:prstGeom prst="pie">
              <a:avLst/>
            </a:pr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Line 19"/>
            <p:cNvSpPr/>
            <p:nvPr/>
          </p:nvSpPr>
          <p:spPr>
            <a:xfrm>
              <a:off x="6724800" y="5334120"/>
              <a:ext cx="1865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0" name="Rectangle 21"/>
          <p:cNvSpPr/>
          <p:nvPr/>
        </p:nvSpPr>
        <p:spPr>
          <a:xfrm>
            <a:off x="6698880" y="5303880"/>
            <a:ext cx="17550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6774120" y="4770360"/>
            <a:ext cx="189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Part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 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cular compound (non- metal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 diatomic (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tc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 uni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onic Compounds (Metal and non-metal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r Tu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STP will be produced from the complete combustion of 23.2 g C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are required to completely react with 17.5 L of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66480" y="4037040"/>
            <a:ext cx="1992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5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2233440" y="3708360"/>
            <a:ext cx="2070000" cy="1364760"/>
            <a:chOff x="2233440" y="3708360"/>
            <a:chExt cx="2070000" cy="1364760"/>
          </a:xfrm>
        </p:grpSpPr>
        <p:grpSp>
          <p:nvGrpSpPr>
            <p:cNvPr id="408" name="Group 7"/>
            <p:cNvGrpSpPr/>
            <p:nvPr/>
          </p:nvGrpSpPr>
          <p:grpSpPr>
            <a:xfrm>
              <a:off x="2233440" y="3708360"/>
              <a:ext cx="295200" cy="1364760"/>
              <a:chOff x="2233440" y="3708360"/>
              <a:chExt cx="295200" cy="1364760"/>
            </a:xfrm>
          </p:grpSpPr>
          <p:sp>
            <p:nvSpPr>
              <p:cNvPr id="409" name="Arc 5"/>
              <p:cNvSpPr/>
              <p:nvPr/>
            </p:nvSpPr>
            <p:spPr>
              <a:xfrm>
                <a:off x="2233440" y="3708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Arc 6"/>
              <p:cNvSpPr/>
              <p:nvPr/>
            </p:nvSpPr>
            <p:spPr>
              <a:xfrm rot="10800000">
                <a:off x="2238120" y="438732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Line 8"/>
            <p:cNvSpPr/>
            <p:nvPr/>
          </p:nvSpPr>
          <p:spPr>
            <a:xfrm>
              <a:off x="2295360" y="439596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12" name="Group 11"/>
            <p:cNvGrpSpPr/>
            <p:nvPr/>
          </p:nvGrpSpPr>
          <p:grpSpPr>
            <a:xfrm>
              <a:off x="3997440" y="3708360"/>
              <a:ext cx="306000" cy="1364760"/>
              <a:chOff x="3997440" y="3708360"/>
              <a:chExt cx="306000" cy="1364760"/>
            </a:xfrm>
          </p:grpSpPr>
          <p:sp>
            <p:nvSpPr>
              <p:cNvPr id="413" name="Arc 9"/>
              <p:cNvSpPr/>
              <p:nvPr/>
            </p:nvSpPr>
            <p:spPr>
              <a:xfrm>
                <a:off x="3997440" y="370836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" name="Arc 10"/>
              <p:cNvSpPr/>
              <p:nvPr/>
            </p:nvSpPr>
            <p:spPr>
              <a:xfrm rot="10800000">
                <a:off x="4014360" y="43873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13"/>
          <p:cNvSpPr/>
          <p:nvPr/>
        </p:nvSpPr>
        <p:spPr>
          <a:xfrm>
            <a:off x="2320560" y="4376880"/>
            <a:ext cx="1992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2288520" y="3816360"/>
            <a:ext cx="1857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7" name="Group 22"/>
          <p:cNvGrpSpPr/>
          <p:nvPr/>
        </p:nvGrpSpPr>
        <p:grpSpPr>
          <a:xfrm>
            <a:off x="4341960" y="3692520"/>
            <a:ext cx="2001600" cy="1364760"/>
            <a:chOff x="4341960" y="3692520"/>
            <a:chExt cx="2001600" cy="1364760"/>
          </a:xfrm>
        </p:grpSpPr>
        <p:grpSp>
          <p:nvGrpSpPr>
            <p:cNvPr id="418" name="Group 17"/>
            <p:cNvGrpSpPr/>
            <p:nvPr/>
          </p:nvGrpSpPr>
          <p:grpSpPr>
            <a:xfrm>
              <a:off x="4341960" y="3692520"/>
              <a:ext cx="285480" cy="1364760"/>
              <a:chOff x="4341960" y="3692520"/>
              <a:chExt cx="285480" cy="1364760"/>
            </a:xfrm>
          </p:grpSpPr>
          <p:sp>
            <p:nvSpPr>
              <p:cNvPr id="419" name="Arc 15"/>
              <p:cNvSpPr/>
              <p:nvPr/>
            </p:nvSpPr>
            <p:spPr>
              <a:xfrm>
                <a:off x="4341960" y="369252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0" name="Arc 16"/>
              <p:cNvSpPr/>
              <p:nvPr/>
            </p:nvSpPr>
            <p:spPr>
              <a:xfrm rot="10800000">
                <a:off x="4348080" y="437148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Line 18"/>
            <p:cNvSpPr/>
            <p:nvPr/>
          </p:nvSpPr>
          <p:spPr>
            <a:xfrm>
              <a:off x="4402080" y="4379760"/>
              <a:ext cx="1846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22" name="Group 21"/>
            <p:cNvGrpSpPr/>
            <p:nvPr/>
          </p:nvGrpSpPr>
          <p:grpSpPr>
            <a:xfrm>
              <a:off x="6046920" y="3692520"/>
              <a:ext cx="296640" cy="1364760"/>
              <a:chOff x="6046920" y="3692520"/>
              <a:chExt cx="296640" cy="1364760"/>
            </a:xfrm>
          </p:grpSpPr>
          <p:sp>
            <p:nvSpPr>
              <p:cNvPr id="423" name="Arc 19"/>
              <p:cNvSpPr/>
              <p:nvPr/>
            </p:nvSpPr>
            <p:spPr>
              <a:xfrm>
                <a:off x="6046920" y="369252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4" name="Arc 20"/>
              <p:cNvSpPr/>
              <p:nvPr/>
            </p:nvSpPr>
            <p:spPr>
              <a:xfrm rot="10800000">
                <a:off x="6064200" y="4371480"/>
                <a:ext cx="27936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" name="Rectangle 23"/>
          <p:cNvSpPr/>
          <p:nvPr/>
        </p:nvSpPr>
        <p:spPr>
          <a:xfrm>
            <a:off x="4445640" y="4359240"/>
            <a:ext cx="1857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4326840" y="3849840"/>
            <a:ext cx="2128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7" name="Group 32"/>
          <p:cNvGrpSpPr/>
          <p:nvPr/>
        </p:nvGrpSpPr>
        <p:grpSpPr>
          <a:xfrm>
            <a:off x="6367320" y="3710160"/>
            <a:ext cx="2219400" cy="1364760"/>
            <a:chOff x="6367320" y="3710160"/>
            <a:chExt cx="2219400" cy="1364760"/>
          </a:xfrm>
        </p:grpSpPr>
        <p:grpSp>
          <p:nvGrpSpPr>
            <p:cNvPr id="428" name="Group 27"/>
            <p:cNvGrpSpPr/>
            <p:nvPr/>
          </p:nvGrpSpPr>
          <p:grpSpPr>
            <a:xfrm>
              <a:off x="6367320" y="3710160"/>
              <a:ext cx="316080" cy="1364760"/>
              <a:chOff x="6367320" y="3710160"/>
              <a:chExt cx="316080" cy="1364760"/>
            </a:xfrm>
          </p:grpSpPr>
          <p:sp>
            <p:nvSpPr>
              <p:cNvPr id="429" name="Arc 25"/>
              <p:cNvSpPr/>
              <p:nvPr/>
            </p:nvSpPr>
            <p:spPr>
              <a:xfrm>
                <a:off x="6367320" y="371016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" name="Arc 26"/>
              <p:cNvSpPr/>
              <p:nvPr/>
            </p:nvSpPr>
            <p:spPr>
              <a:xfrm rot="10800000">
                <a:off x="6372360" y="4389120"/>
                <a:ext cx="3110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Line 28"/>
            <p:cNvSpPr/>
            <p:nvPr/>
          </p:nvSpPr>
          <p:spPr>
            <a:xfrm>
              <a:off x="6435720" y="4397400"/>
              <a:ext cx="2046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32" name="Group 31"/>
            <p:cNvGrpSpPr/>
            <p:nvPr/>
          </p:nvGrpSpPr>
          <p:grpSpPr>
            <a:xfrm>
              <a:off x="8258040" y="3710160"/>
              <a:ext cx="328680" cy="1364760"/>
              <a:chOff x="8258040" y="3710160"/>
              <a:chExt cx="328680" cy="1364760"/>
            </a:xfrm>
          </p:grpSpPr>
          <p:sp>
            <p:nvSpPr>
              <p:cNvPr id="433" name="Arc 29"/>
              <p:cNvSpPr/>
              <p:nvPr/>
            </p:nvSpPr>
            <p:spPr>
              <a:xfrm>
                <a:off x="8258040" y="371016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" name="Arc 30"/>
              <p:cNvSpPr/>
              <p:nvPr/>
            </p:nvSpPr>
            <p:spPr>
              <a:xfrm rot="10800000">
                <a:off x="8277120" y="4389120"/>
                <a:ext cx="30960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Rectangle 33"/>
          <p:cNvSpPr/>
          <p:nvPr/>
        </p:nvSpPr>
        <p:spPr>
          <a:xfrm>
            <a:off x="6469920" y="4375080"/>
            <a:ext cx="2128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Rectangle 34"/>
          <p:cNvSpPr/>
          <p:nvPr/>
        </p:nvSpPr>
        <p:spPr>
          <a:xfrm>
            <a:off x="6372000" y="3813120"/>
            <a:ext cx="2264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.4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Rectangle 35"/>
          <p:cNvSpPr/>
          <p:nvPr/>
        </p:nvSpPr>
        <p:spPr>
          <a:xfrm>
            <a:off x="4005720" y="5308560"/>
            <a:ext cx="26146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8.75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8" name="Group 46"/>
          <p:cNvGrpSpPr/>
          <p:nvPr/>
        </p:nvGrpSpPr>
        <p:grpSpPr>
          <a:xfrm>
            <a:off x="2232000" y="3722760"/>
            <a:ext cx="2079720" cy="1384920"/>
            <a:chOff x="2232000" y="3722760"/>
            <a:chExt cx="2079720" cy="1384920"/>
          </a:xfrm>
        </p:grpSpPr>
        <p:grpSp>
          <p:nvGrpSpPr>
            <p:cNvPr id="439" name="Group 43"/>
            <p:cNvGrpSpPr/>
            <p:nvPr/>
          </p:nvGrpSpPr>
          <p:grpSpPr>
            <a:xfrm>
              <a:off x="2232000" y="3722760"/>
              <a:ext cx="2070000" cy="1364760"/>
              <a:chOff x="2232000" y="3722760"/>
              <a:chExt cx="2070000" cy="1364760"/>
            </a:xfrm>
          </p:grpSpPr>
          <p:grpSp>
            <p:nvGrpSpPr>
              <p:cNvPr id="440" name="Group 38"/>
              <p:cNvGrpSpPr/>
              <p:nvPr/>
            </p:nvGrpSpPr>
            <p:grpSpPr>
              <a:xfrm>
                <a:off x="2232000" y="3722760"/>
                <a:ext cx="294840" cy="1364760"/>
                <a:chOff x="2232000" y="3722760"/>
                <a:chExt cx="294840" cy="1364760"/>
              </a:xfrm>
            </p:grpSpPr>
            <p:sp>
              <p:nvSpPr>
                <p:cNvPr id="441" name="Arc 36"/>
                <p:cNvSpPr/>
                <p:nvPr/>
              </p:nvSpPr>
              <p:spPr>
                <a:xfrm>
                  <a:off x="2232000" y="3722760"/>
                  <a:ext cx="28908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rc 37"/>
                <p:cNvSpPr/>
                <p:nvPr/>
              </p:nvSpPr>
              <p:spPr>
                <a:xfrm rot="10800000">
                  <a:off x="2236320" y="4401720"/>
                  <a:ext cx="29052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39"/>
              <p:cNvSpPr/>
              <p:nvPr/>
            </p:nvSpPr>
            <p:spPr>
              <a:xfrm>
                <a:off x="2293920" y="4410000"/>
                <a:ext cx="19098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44" name="Group 42"/>
              <p:cNvGrpSpPr/>
              <p:nvPr/>
            </p:nvGrpSpPr>
            <p:grpSpPr>
              <a:xfrm>
                <a:off x="3995640" y="3722760"/>
                <a:ext cx="306360" cy="1364760"/>
                <a:chOff x="3995640" y="3722760"/>
                <a:chExt cx="306360" cy="1364760"/>
              </a:xfrm>
            </p:grpSpPr>
            <p:sp>
              <p:nvSpPr>
                <p:cNvPr id="445" name="Arc 40"/>
                <p:cNvSpPr/>
                <p:nvPr/>
              </p:nvSpPr>
              <p:spPr>
                <a:xfrm>
                  <a:off x="3995640" y="3722760"/>
                  <a:ext cx="28908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rc 41"/>
                <p:cNvSpPr/>
                <p:nvPr/>
              </p:nvSpPr>
              <p:spPr>
                <a:xfrm rot="10800000">
                  <a:off x="4013280" y="4401720"/>
                  <a:ext cx="28872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Rectangle 44"/>
            <p:cNvSpPr/>
            <p:nvPr/>
          </p:nvSpPr>
          <p:spPr>
            <a:xfrm>
              <a:off x="2319120" y="4390920"/>
              <a:ext cx="199260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2.4 L 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2286720" y="3830760"/>
              <a:ext cx="185724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 mol 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9" name="Group 57"/>
          <p:cNvGrpSpPr/>
          <p:nvPr/>
        </p:nvGrpSpPr>
        <p:grpSpPr>
          <a:xfrm>
            <a:off x="6365520" y="3713040"/>
            <a:ext cx="2264040" cy="1369440"/>
            <a:chOff x="6365520" y="3713040"/>
            <a:chExt cx="2264040" cy="1369440"/>
          </a:xfrm>
        </p:grpSpPr>
        <p:grpSp>
          <p:nvGrpSpPr>
            <p:cNvPr id="450" name="Group 54"/>
            <p:cNvGrpSpPr/>
            <p:nvPr/>
          </p:nvGrpSpPr>
          <p:grpSpPr>
            <a:xfrm>
              <a:off x="6373800" y="3713040"/>
              <a:ext cx="2219400" cy="1365120"/>
              <a:chOff x="6373800" y="3713040"/>
              <a:chExt cx="2219400" cy="1365120"/>
            </a:xfrm>
          </p:grpSpPr>
          <p:grpSp>
            <p:nvGrpSpPr>
              <p:cNvPr id="451" name="Group 49"/>
              <p:cNvGrpSpPr/>
              <p:nvPr/>
            </p:nvGrpSpPr>
            <p:grpSpPr>
              <a:xfrm>
                <a:off x="6373800" y="3713040"/>
                <a:ext cx="315720" cy="1365120"/>
                <a:chOff x="6373800" y="3713040"/>
                <a:chExt cx="315720" cy="1365120"/>
              </a:xfrm>
            </p:grpSpPr>
            <p:sp>
              <p:nvSpPr>
                <p:cNvPr id="452" name="Arc 47"/>
                <p:cNvSpPr/>
                <p:nvPr/>
              </p:nvSpPr>
              <p:spPr>
                <a:xfrm>
                  <a:off x="6373800" y="371304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rc 48"/>
                <p:cNvSpPr/>
                <p:nvPr/>
              </p:nvSpPr>
              <p:spPr>
                <a:xfrm rot="10800000">
                  <a:off x="6378120" y="4392360"/>
                  <a:ext cx="3114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Line 50"/>
              <p:cNvSpPr/>
              <p:nvPr/>
            </p:nvSpPr>
            <p:spPr>
              <a:xfrm>
                <a:off x="6442200" y="4400640"/>
                <a:ext cx="20462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55" name="Group 53"/>
              <p:cNvGrpSpPr/>
              <p:nvPr/>
            </p:nvGrpSpPr>
            <p:grpSpPr>
              <a:xfrm>
                <a:off x="8264520" y="3713040"/>
                <a:ext cx="328680" cy="1365120"/>
                <a:chOff x="8264520" y="3713040"/>
                <a:chExt cx="328680" cy="1365120"/>
              </a:xfrm>
            </p:grpSpPr>
            <p:sp>
              <p:nvSpPr>
                <p:cNvPr id="456" name="Arc 51"/>
                <p:cNvSpPr/>
                <p:nvPr/>
              </p:nvSpPr>
              <p:spPr>
                <a:xfrm>
                  <a:off x="8264520" y="371304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rc 52"/>
                <p:cNvSpPr/>
                <p:nvPr/>
              </p:nvSpPr>
              <p:spPr>
                <a:xfrm rot="10800000">
                  <a:off x="8283600" y="4392360"/>
                  <a:ext cx="309600" cy="685800"/>
                </a:xfrm>
                <a:prstGeom prst="pie">
                  <a:avLst/>
                </a:pr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8" name="Rectangle 55"/>
            <p:cNvSpPr/>
            <p:nvPr/>
          </p:nvSpPr>
          <p:spPr>
            <a:xfrm>
              <a:off x="6463800" y="4365720"/>
              <a:ext cx="212832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 mol C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Rectangle 56"/>
            <p:cNvSpPr/>
            <p:nvPr/>
          </p:nvSpPr>
          <p:spPr>
            <a:xfrm>
              <a:off x="6365520" y="3803760"/>
              <a:ext cx="226404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2.4 L C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ogadro told 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volumes of gas, at the same temperature and pressure contain the same number of partic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s are numbers of partic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can treat reactions as if they happen liters at a time, as long as you keep the temperature and pressure the same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7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iters of 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 STP are produced by completely burning  17.5 L of C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096560" y="4037040"/>
            <a:ext cx="2264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.5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5" name="Group 12"/>
          <p:cNvGrpSpPr/>
          <p:nvPr/>
        </p:nvGrpSpPr>
        <p:grpSpPr>
          <a:xfrm>
            <a:off x="3389400" y="3708360"/>
            <a:ext cx="2069640" cy="1364760"/>
            <a:chOff x="3389400" y="3708360"/>
            <a:chExt cx="2069640" cy="1364760"/>
          </a:xfrm>
        </p:grpSpPr>
        <p:grpSp>
          <p:nvGrpSpPr>
            <p:cNvPr id="466" name="Group 7"/>
            <p:cNvGrpSpPr/>
            <p:nvPr/>
          </p:nvGrpSpPr>
          <p:grpSpPr>
            <a:xfrm>
              <a:off x="3389400" y="3708360"/>
              <a:ext cx="294840" cy="1364760"/>
              <a:chOff x="3389400" y="3708360"/>
              <a:chExt cx="294840" cy="1364760"/>
            </a:xfrm>
          </p:grpSpPr>
          <p:sp>
            <p:nvSpPr>
              <p:cNvPr id="467" name="Arc 5"/>
              <p:cNvSpPr/>
              <p:nvPr/>
            </p:nvSpPr>
            <p:spPr>
              <a:xfrm>
                <a:off x="3389400" y="370836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8" name="Arc 6"/>
              <p:cNvSpPr/>
              <p:nvPr/>
            </p:nvSpPr>
            <p:spPr>
              <a:xfrm rot="10800000">
                <a:off x="3393720" y="438732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Line 8"/>
            <p:cNvSpPr/>
            <p:nvPr/>
          </p:nvSpPr>
          <p:spPr>
            <a:xfrm>
              <a:off x="3451320" y="439596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70" name="Group 11"/>
            <p:cNvGrpSpPr/>
            <p:nvPr/>
          </p:nvGrpSpPr>
          <p:grpSpPr>
            <a:xfrm>
              <a:off x="5153040" y="3708360"/>
              <a:ext cx="306000" cy="1364760"/>
              <a:chOff x="5153040" y="3708360"/>
              <a:chExt cx="306000" cy="1364760"/>
            </a:xfrm>
          </p:grpSpPr>
          <p:sp>
            <p:nvSpPr>
              <p:cNvPr id="471" name="Arc 9"/>
              <p:cNvSpPr/>
              <p:nvPr/>
            </p:nvSpPr>
            <p:spPr>
              <a:xfrm>
                <a:off x="5153040" y="3708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" name="Arc 10"/>
              <p:cNvSpPr/>
              <p:nvPr/>
            </p:nvSpPr>
            <p:spPr>
              <a:xfrm rot="10800000">
                <a:off x="5169960" y="43873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Rectangle 13"/>
          <p:cNvSpPr/>
          <p:nvPr/>
        </p:nvSpPr>
        <p:spPr>
          <a:xfrm>
            <a:off x="3475800" y="4376880"/>
            <a:ext cx="1700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L C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3443760" y="3816360"/>
            <a:ext cx="17229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L C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5806800" y="4051440"/>
            <a:ext cx="2637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7.5 L CO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7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7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also change between particles and mol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lecul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3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2.8 g of 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burned completely, how many water molecules will be mad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6"/>
          <p:cNvSpPr/>
          <p:nvPr/>
        </p:nvSpPr>
        <p:spPr>
          <a:xfrm>
            <a:off x="457200" y="5105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cle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457560" y="99072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ter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5720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m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858000" y="5181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cle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7160040" y="106668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ter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7162920" y="31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m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274320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s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952880" y="31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s 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198108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419112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6553080" y="3200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AutoShape 18"/>
          <p:cNvSpPr/>
          <p:nvPr/>
        </p:nvSpPr>
        <p:spPr>
          <a:xfrm rot="3816600">
            <a:off x="1523880" y="2057040"/>
            <a:ext cx="1676160" cy="457200"/>
          </a:xfrm>
          <a:prstGeom prst="rightArrow">
            <a:avLst>
              <a:gd name="adj1" fmla="val 46806"/>
              <a:gd name="adj2" fmla="val 41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AutoShape 20"/>
          <p:cNvSpPr/>
          <p:nvPr/>
        </p:nvSpPr>
        <p:spPr>
          <a:xfrm flipV="1" rot="17783400">
            <a:off x="1447560" y="4267080"/>
            <a:ext cx="1676520" cy="457200"/>
          </a:xfrm>
          <a:prstGeom prst="rightArrow">
            <a:avLst>
              <a:gd name="adj1" fmla="val 46806"/>
              <a:gd name="adj2" fmla="val 4116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AutoShape 21"/>
          <p:cNvSpPr/>
          <p:nvPr/>
        </p:nvSpPr>
        <p:spPr>
          <a:xfrm flipV="1" rot="17783400">
            <a:off x="6019560" y="2133360"/>
            <a:ext cx="1676520" cy="457200"/>
          </a:xfrm>
          <a:prstGeom prst="rightArrow">
            <a:avLst>
              <a:gd name="adj1" fmla="val 46806"/>
              <a:gd name="adj2" fmla="val 4116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AutoShape 22"/>
          <p:cNvSpPr/>
          <p:nvPr/>
        </p:nvSpPr>
        <p:spPr>
          <a:xfrm rot="3816600">
            <a:off x="5943240" y="4343040"/>
            <a:ext cx="1676160" cy="457200"/>
          </a:xfrm>
          <a:prstGeom prst="rightArrow">
            <a:avLst>
              <a:gd name="adj1" fmla="val 46806"/>
              <a:gd name="adj2" fmla="val 411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251460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.4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5562720" y="1828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.4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2286000" y="4572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4724280" y="4572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.02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1752480" y="2743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8580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36576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qu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miting Reag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73040" y="13712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you are given one dozen loaves of bread, a gallon of mustard and three pieces of salami, how many salami sandwiches can you mak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reag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the reactant you run out of first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 reag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the one you have left ov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imiting reagent determines how much product you can mak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4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4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you find ou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two stoichiometry problem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ne that makes the least product is the limiting reagent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exam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pper reacts with sulfur to form copper ( I ) sulfide. If 10.6 g of copper reacts with 3.83 g S how much product will be formed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04280" y="537840"/>
            <a:ext cx="8299800" cy="22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6 g of copper reacts with 3.83 g S. How many grams of product will be form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Cu + S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u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800" y="2916360"/>
            <a:ext cx="183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.6 g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8" name="Group 11"/>
          <p:cNvGrpSpPr/>
          <p:nvPr/>
        </p:nvGrpSpPr>
        <p:grpSpPr>
          <a:xfrm>
            <a:off x="2028960" y="2570040"/>
            <a:ext cx="2069640" cy="1365120"/>
            <a:chOff x="2028960" y="2570040"/>
            <a:chExt cx="2069640" cy="1365120"/>
          </a:xfrm>
        </p:grpSpPr>
        <p:grpSp>
          <p:nvGrpSpPr>
            <p:cNvPr id="509" name="Group 6"/>
            <p:cNvGrpSpPr/>
            <p:nvPr/>
          </p:nvGrpSpPr>
          <p:grpSpPr>
            <a:xfrm>
              <a:off x="2028960" y="2570040"/>
              <a:ext cx="294840" cy="1365120"/>
              <a:chOff x="2028960" y="2570040"/>
              <a:chExt cx="294840" cy="1365120"/>
            </a:xfrm>
          </p:grpSpPr>
          <p:sp>
            <p:nvSpPr>
              <p:cNvPr id="510" name="Arc 4"/>
              <p:cNvSpPr/>
              <p:nvPr/>
            </p:nvSpPr>
            <p:spPr>
              <a:xfrm>
                <a:off x="2028960" y="257004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Arc 5"/>
              <p:cNvSpPr/>
              <p:nvPr/>
            </p:nvSpPr>
            <p:spPr>
              <a:xfrm rot="10800000">
                <a:off x="2033280" y="324936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Line 7"/>
            <p:cNvSpPr/>
            <p:nvPr/>
          </p:nvSpPr>
          <p:spPr>
            <a:xfrm>
              <a:off x="2090880" y="325764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13" name="Group 10"/>
            <p:cNvGrpSpPr/>
            <p:nvPr/>
          </p:nvGrpSpPr>
          <p:grpSpPr>
            <a:xfrm>
              <a:off x="3792600" y="2570040"/>
              <a:ext cx="306000" cy="1365120"/>
              <a:chOff x="3792600" y="2570040"/>
              <a:chExt cx="306000" cy="1365120"/>
            </a:xfrm>
          </p:grpSpPr>
          <p:sp>
            <p:nvSpPr>
              <p:cNvPr id="514" name="Arc 8"/>
              <p:cNvSpPr/>
              <p:nvPr/>
            </p:nvSpPr>
            <p:spPr>
              <a:xfrm>
                <a:off x="3792600" y="257004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Arc 9"/>
              <p:cNvSpPr/>
              <p:nvPr/>
            </p:nvSpPr>
            <p:spPr>
              <a:xfrm rot="10800000">
                <a:off x="3809520" y="32493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Rectangle 12"/>
          <p:cNvSpPr/>
          <p:nvPr/>
        </p:nvSpPr>
        <p:spPr>
          <a:xfrm>
            <a:off x="2071800" y="3240000"/>
            <a:ext cx="2044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63.55g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2108160" y="2712960"/>
            <a:ext cx="180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8" name="Group 21"/>
          <p:cNvGrpSpPr/>
          <p:nvPr/>
        </p:nvGrpSpPr>
        <p:grpSpPr>
          <a:xfrm>
            <a:off x="4119480" y="2589120"/>
            <a:ext cx="2052720" cy="1365120"/>
            <a:chOff x="4119480" y="2589120"/>
            <a:chExt cx="2052720" cy="1365120"/>
          </a:xfrm>
        </p:grpSpPr>
        <p:grpSp>
          <p:nvGrpSpPr>
            <p:cNvPr id="519" name="Group 16"/>
            <p:cNvGrpSpPr/>
            <p:nvPr/>
          </p:nvGrpSpPr>
          <p:grpSpPr>
            <a:xfrm>
              <a:off x="4119480" y="2589120"/>
              <a:ext cx="293760" cy="1365120"/>
              <a:chOff x="4119480" y="2589120"/>
              <a:chExt cx="293760" cy="1365120"/>
            </a:xfrm>
          </p:grpSpPr>
          <p:sp>
            <p:nvSpPr>
              <p:cNvPr id="520" name="Arc 14"/>
              <p:cNvSpPr/>
              <p:nvPr/>
            </p:nvSpPr>
            <p:spPr>
              <a:xfrm>
                <a:off x="4119480" y="258912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1" name="Arc 15"/>
              <p:cNvSpPr/>
              <p:nvPr/>
            </p:nvSpPr>
            <p:spPr>
              <a:xfrm rot="10800000">
                <a:off x="4125960" y="3268440"/>
                <a:ext cx="287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Line 17"/>
            <p:cNvSpPr/>
            <p:nvPr/>
          </p:nvSpPr>
          <p:spPr>
            <a:xfrm>
              <a:off x="4181400" y="3276720"/>
              <a:ext cx="189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23" name="Group 20"/>
            <p:cNvGrpSpPr/>
            <p:nvPr/>
          </p:nvGrpSpPr>
          <p:grpSpPr>
            <a:xfrm>
              <a:off x="5867280" y="2589120"/>
              <a:ext cx="304920" cy="1365120"/>
              <a:chOff x="5867280" y="2589120"/>
              <a:chExt cx="304920" cy="1365120"/>
            </a:xfrm>
          </p:grpSpPr>
          <p:sp>
            <p:nvSpPr>
              <p:cNvPr id="524" name="Arc 18"/>
              <p:cNvSpPr/>
              <p:nvPr/>
            </p:nvSpPr>
            <p:spPr>
              <a:xfrm>
                <a:off x="5867280" y="258912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5" name="Arc 19"/>
              <p:cNvSpPr/>
              <p:nvPr/>
            </p:nvSpPr>
            <p:spPr>
              <a:xfrm rot="10800000">
                <a:off x="5886360" y="326844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Rectangle 22"/>
          <p:cNvSpPr/>
          <p:nvPr/>
        </p:nvSpPr>
        <p:spPr>
          <a:xfrm>
            <a:off x="4128840" y="3238560"/>
            <a:ext cx="191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mol C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4068720" y="2711520"/>
            <a:ext cx="21891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8" name="Group 31"/>
          <p:cNvGrpSpPr/>
          <p:nvPr/>
        </p:nvGrpSpPr>
        <p:grpSpPr>
          <a:xfrm>
            <a:off x="6197760" y="2556000"/>
            <a:ext cx="2628360" cy="1364760"/>
            <a:chOff x="6197760" y="2556000"/>
            <a:chExt cx="2628360" cy="1364760"/>
          </a:xfrm>
        </p:grpSpPr>
        <p:grpSp>
          <p:nvGrpSpPr>
            <p:cNvPr id="529" name="Group 26"/>
            <p:cNvGrpSpPr/>
            <p:nvPr/>
          </p:nvGrpSpPr>
          <p:grpSpPr>
            <a:xfrm>
              <a:off x="6197760" y="2556000"/>
              <a:ext cx="374040" cy="1364760"/>
              <a:chOff x="6197760" y="2556000"/>
              <a:chExt cx="374040" cy="1364760"/>
            </a:xfrm>
          </p:grpSpPr>
          <p:sp>
            <p:nvSpPr>
              <p:cNvPr id="530" name="Arc 24"/>
              <p:cNvSpPr/>
              <p:nvPr/>
            </p:nvSpPr>
            <p:spPr>
              <a:xfrm>
                <a:off x="6197760" y="2556000"/>
                <a:ext cx="3664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1" name="Arc 25"/>
              <p:cNvSpPr/>
              <p:nvPr/>
            </p:nvSpPr>
            <p:spPr>
              <a:xfrm rot="10800000">
                <a:off x="6203520" y="3234960"/>
                <a:ext cx="368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27"/>
            <p:cNvSpPr/>
            <p:nvPr/>
          </p:nvSpPr>
          <p:spPr>
            <a:xfrm>
              <a:off x="6278400" y="3243240"/>
              <a:ext cx="24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33" name="Group 30"/>
            <p:cNvGrpSpPr/>
            <p:nvPr/>
          </p:nvGrpSpPr>
          <p:grpSpPr>
            <a:xfrm>
              <a:off x="8437680" y="2556000"/>
              <a:ext cx="388440" cy="1364760"/>
              <a:chOff x="8437680" y="2556000"/>
              <a:chExt cx="388440" cy="1364760"/>
            </a:xfrm>
          </p:grpSpPr>
          <p:sp>
            <p:nvSpPr>
              <p:cNvPr id="534" name="Arc 28"/>
              <p:cNvSpPr/>
              <p:nvPr/>
            </p:nvSpPr>
            <p:spPr>
              <a:xfrm>
                <a:off x="8437680" y="2556000"/>
                <a:ext cx="3664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5" name="Arc 29"/>
              <p:cNvSpPr/>
              <p:nvPr/>
            </p:nvSpPr>
            <p:spPr>
              <a:xfrm rot="10800000">
                <a:off x="8459280" y="323496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Rectangle 32"/>
          <p:cNvSpPr/>
          <p:nvPr/>
        </p:nvSpPr>
        <p:spPr>
          <a:xfrm>
            <a:off x="6467760" y="3276720"/>
            <a:ext cx="2086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6148080" y="2714760"/>
            <a:ext cx="2637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59.16 g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062400" y="3897360"/>
            <a:ext cx="26420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3.3 g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Rectangle 35"/>
          <p:cNvSpPr/>
          <p:nvPr/>
        </p:nvSpPr>
        <p:spPr>
          <a:xfrm>
            <a:off x="419040" y="4869000"/>
            <a:ext cx="161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83 g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0" name="Group 43"/>
          <p:cNvGrpSpPr/>
          <p:nvPr/>
        </p:nvGrpSpPr>
        <p:grpSpPr>
          <a:xfrm>
            <a:off x="2058840" y="4522680"/>
            <a:ext cx="2070000" cy="1365120"/>
            <a:chOff x="2058840" y="4522680"/>
            <a:chExt cx="2070000" cy="1365120"/>
          </a:xfrm>
        </p:grpSpPr>
        <p:grpSp>
          <p:nvGrpSpPr>
            <p:cNvPr id="541" name="Group 38"/>
            <p:cNvGrpSpPr/>
            <p:nvPr/>
          </p:nvGrpSpPr>
          <p:grpSpPr>
            <a:xfrm>
              <a:off x="2058840" y="4522680"/>
              <a:ext cx="295200" cy="1365120"/>
              <a:chOff x="2058840" y="4522680"/>
              <a:chExt cx="295200" cy="1365120"/>
            </a:xfrm>
          </p:grpSpPr>
          <p:sp>
            <p:nvSpPr>
              <p:cNvPr id="542" name="Arc 36"/>
              <p:cNvSpPr/>
              <p:nvPr/>
            </p:nvSpPr>
            <p:spPr>
              <a:xfrm>
                <a:off x="2058840" y="452268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3" name="Arc 37"/>
              <p:cNvSpPr/>
              <p:nvPr/>
            </p:nvSpPr>
            <p:spPr>
              <a:xfrm rot="10800000">
                <a:off x="2063520" y="5202000"/>
                <a:ext cx="2905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Line 39"/>
            <p:cNvSpPr/>
            <p:nvPr/>
          </p:nvSpPr>
          <p:spPr>
            <a:xfrm>
              <a:off x="2120760" y="5210280"/>
              <a:ext cx="1909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45" name="Group 42"/>
            <p:cNvGrpSpPr/>
            <p:nvPr/>
          </p:nvGrpSpPr>
          <p:grpSpPr>
            <a:xfrm>
              <a:off x="3822840" y="4522680"/>
              <a:ext cx="306000" cy="1365120"/>
              <a:chOff x="3822840" y="4522680"/>
              <a:chExt cx="306000" cy="1365120"/>
            </a:xfrm>
          </p:grpSpPr>
          <p:sp>
            <p:nvSpPr>
              <p:cNvPr id="546" name="Arc 40"/>
              <p:cNvSpPr/>
              <p:nvPr/>
            </p:nvSpPr>
            <p:spPr>
              <a:xfrm>
                <a:off x="3822840" y="4522680"/>
                <a:ext cx="28872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7" name="Arc 41"/>
              <p:cNvSpPr/>
              <p:nvPr/>
            </p:nvSpPr>
            <p:spPr>
              <a:xfrm rot="10800000">
                <a:off x="3839760" y="520200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Rectangle 44"/>
          <p:cNvSpPr/>
          <p:nvPr/>
        </p:nvSpPr>
        <p:spPr>
          <a:xfrm>
            <a:off x="2101680" y="5192640"/>
            <a:ext cx="181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32.06g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2138760" y="4665600"/>
            <a:ext cx="156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4149720" y="4541760"/>
            <a:ext cx="2052720" cy="1365120"/>
            <a:chOff x="4149720" y="4541760"/>
            <a:chExt cx="2052720" cy="1365120"/>
          </a:xfrm>
        </p:grpSpPr>
        <p:grpSp>
          <p:nvGrpSpPr>
            <p:cNvPr id="551" name="Group 48"/>
            <p:cNvGrpSpPr/>
            <p:nvPr/>
          </p:nvGrpSpPr>
          <p:grpSpPr>
            <a:xfrm>
              <a:off x="4149720" y="4541760"/>
              <a:ext cx="293760" cy="1365120"/>
              <a:chOff x="4149720" y="4541760"/>
              <a:chExt cx="293760" cy="1365120"/>
            </a:xfrm>
          </p:grpSpPr>
          <p:sp>
            <p:nvSpPr>
              <p:cNvPr id="552" name="Arc 46"/>
              <p:cNvSpPr/>
              <p:nvPr/>
            </p:nvSpPr>
            <p:spPr>
              <a:xfrm>
                <a:off x="4149720" y="454176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3" name="Arc 47"/>
              <p:cNvSpPr/>
              <p:nvPr/>
            </p:nvSpPr>
            <p:spPr>
              <a:xfrm rot="10800000">
                <a:off x="4156200" y="5221080"/>
                <a:ext cx="287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Line 49"/>
            <p:cNvSpPr/>
            <p:nvPr/>
          </p:nvSpPr>
          <p:spPr>
            <a:xfrm>
              <a:off x="4211640" y="5229360"/>
              <a:ext cx="189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55" name="Group 52"/>
            <p:cNvGrpSpPr/>
            <p:nvPr/>
          </p:nvGrpSpPr>
          <p:grpSpPr>
            <a:xfrm>
              <a:off x="5897520" y="4541760"/>
              <a:ext cx="304920" cy="1365120"/>
              <a:chOff x="5897520" y="4541760"/>
              <a:chExt cx="304920" cy="1365120"/>
            </a:xfrm>
          </p:grpSpPr>
          <p:sp>
            <p:nvSpPr>
              <p:cNvPr id="556" name="Arc 50"/>
              <p:cNvSpPr/>
              <p:nvPr/>
            </p:nvSpPr>
            <p:spPr>
              <a:xfrm>
                <a:off x="5897520" y="4541760"/>
                <a:ext cx="2890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7" name="Arc 51"/>
              <p:cNvSpPr/>
              <p:nvPr/>
            </p:nvSpPr>
            <p:spPr>
              <a:xfrm rot="10800000">
                <a:off x="5916600" y="5221080"/>
                <a:ext cx="285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" name="Rectangle 54"/>
          <p:cNvSpPr/>
          <p:nvPr/>
        </p:nvSpPr>
        <p:spPr>
          <a:xfrm>
            <a:off x="4159080" y="5191200"/>
            <a:ext cx="16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mol 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Rectangle 55"/>
          <p:cNvSpPr/>
          <p:nvPr/>
        </p:nvSpPr>
        <p:spPr>
          <a:xfrm>
            <a:off x="4098960" y="4664160"/>
            <a:ext cx="21891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0" name="Group 63"/>
          <p:cNvGrpSpPr/>
          <p:nvPr/>
        </p:nvGrpSpPr>
        <p:grpSpPr>
          <a:xfrm>
            <a:off x="6227640" y="4508640"/>
            <a:ext cx="2628720" cy="1364760"/>
            <a:chOff x="6227640" y="4508640"/>
            <a:chExt cx="2628720" cy="1364760"/>
          </a:xfrm>
        </p:grpSpPr>
        <p:grpSp>
          <p:nvGrpSpPr>
            <p:cNvPr id="561" name="Group 58"/>
            <p:cNvGrpSpPr/>
            <p:nvPr/>
          </p:nvGrpSpPr>
          <p:grpSpPr>
            <a:xfrm>
              <a:off x="6227640" y="4508640"/>
              <a:ext cx="374400" cy="1364760"/>
              <a:chOff x="6227640" y="4508640"/>
              <a:chExt cx="374400" cy="1364760"/>
            </a:xfrm>
          </p:grpSpPr>
          <p:sp>
            <p:nvSpPr>
              <p:cNvPr id="562" name="Arc 56"/>
              <p:cNvSpPr/>
              <p:nvPr/>
            </p:nvSpPr>
            <p:spPr>
              <a:xfrm>
                <a:off x="6227640" y="450864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3" name="Arc 57"/>
              <p:cNvSpPr/>
              <p:nvPr/>
            </p:nvSpPr>
            <p:spPr>
              <a:xfrm rot="10800000">
                <a:off x="6233760" y="5187600"/>
                <a:ext cx="36828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59"/>
            <p:cNvSpPr/>
            <p:nvPr/>
          </p:nvSpPr>
          <p:spPr>
            <a:xfrm>
              <a:off x="6308640" y="5195880"/>
              <a:ext cx="24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65" name="Group 62"/>
            <p:cNvGrpSpPr/>
            <p:nvPr/>
          </p:nvGrpSpPr>
          <p:grpSpPr>
            <a:xfrm>
              <a:off x="8467560" y="4508640"/>
              <a:ext cx="388800" cy="1364760"/>
              <a:chOff x="8467560" y="4508640"/>
              <a:chExt cx="388800" cy="1364760"/>
            </a:xfrm>
          </p:grpSpPr>
          <p:sp>
            <p:nvSpPr>
              <p:cNvPr id="566" name="Arc 60"/>
              <p:cNvSpPr/>
              <p:nvPr/>
            </p:nvSpPr>
            <p:spPr>
              <a:xfrm>
                <a:off x="8467560" y="450864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" name="Arc 61"/>
              <p:cNvSpPr/>
              <p:nvPr/>
            </p:nvSpPr>
            <p:spPr>
              <a:xfrm rot="10800000">
                <a:off x="8489520" y="5187600"/>
                <a:ext cx="366840" cy="685800"/>
              </a:xfrm>
              <a:prstGeom prst="pie">
                <a:avLst/>
              </a:pr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Rectangle 64"/>
          <p:cNvSpPr/>
          <p:nvPr/>
        </p:nvSpPr>
        <p:spPr>
          <a:xfrm>
            <a:off x="6498000" y="5229360"/>
            <a:ext cx="2086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 mol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Rectangle 65"/>
          <p:cNvSpPr/>
          <p:nvPr/>
        </p:nvSpPr>
        <p:spPr>
          <a:xfrm>
            <a:off x="6178320" y="4667400"/>
            <a:ext cx="2637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59.16 g 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Rectangle 66"/>
          <p:cNvSpPr/>
          <p:nvPr/>
        </p:nvSpPr>
        <p:spPr>
          <a:xfrm>
            <a:off x="6040080" y="5869080"/>
            <a:ext cx="26420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19.0 g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67"/>
          <p:cNvSpPr/>
          <p:nvPr/>
        </p:nvSpPr>
        <p:spPr>
          <a:xfrm>
            <a:off x="6060960" y="3895560"/>
            <a:ext cx="2642040" cy="63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= 13.3 g </a:t>
            </a: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Cu</a:t>
            </a:r>
            <a:r>
              <a:rPr b="1" lang="en-US" sz="30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AutoShape 68"/>
          <p:cNvSpPr/>
          <p:nvPr/>
        </p:nvSpPr>
        <p:spPr>
          <a:xfrm>
            <a:off x="2854440" y="0"/>
            <a:ext cx="5221080" cy="4726080"/>
          </a:xfrm>
          <a:custGeom>
            <a:avLst/>
            <a:gdLst>
              <a:gd name="textAreaLeft" fmla="*/ 1191960 w 5221080"/>
              <a:gd name="textAreaRight" fmla="*/ 4029120 w 5221080"/>
              <a:gd name="textAreaTop" fmla="*/ 1078920 h 4726080"/>
              <a:gd name="textAreaBottom" fmla="*/ 3647160 h 472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Rectangle 69"/>
          <p:cNvSpPr/>
          <p:nvPr/>
        </p:nvSpPr>
        <p:spPr>
          <a:xfrm>
            <a:off x="4444920" y="1503360"/>
            <a:ext cx="2133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Cu is Limiting Reag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+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molecules of hydrogen and one molecule of oxygen form two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26440" y="385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504080" y="3855960"/>
            <a:ext cx="237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85480" y="3855960"/>
            <a:ext cx="1120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088240" y="385596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79320" y="385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306840" y="3855960"/>
            <a:ext cx="126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7374600" y="3855960"/>
            <a:ext cx="694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268720" y="454176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031560" y="45417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333600" y="4541760"/>
            <a:ext cx="183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96880" y="454176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much excess rea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he limiting reagent to find out how much excess reagent you us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tract that from the amount of excess you started wi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g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2 HCl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4.87 mol of magnesium and 9.84 mol of HCl gas are reacted, how many moles of gas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limiting reagen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g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2 HCl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+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4.87 mol of magnesium and 9.84 mol of HCl gas are reacted, how many moles of gas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excess reagent remain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10.3 g of aluminum are reacted with 51.7 g of CuS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ow much copper will be produce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uch excess reagent will remai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1216080" y="522360"/>
            <a:ext cx="6702480" cy="580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iel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mount of product made in a chemical reactio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three 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what you get in the lab when the chemicals are mix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etical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what the balanced equation tells you you should mak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=    Actual       x 100 %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Theoretic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62520" y="5749920"/>
            <a:ext cx="2361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4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78 g of copper is produced when 3.92 g of Al are reacted with excess copper (II) sulfa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Al + 3 Cu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3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actual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theoretical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percent yiel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you had started with 9.73 g of Al, how much copper would you expec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cent yield tells us how “efficient” a reaction i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cent yield can not be bigger than 100 %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Na + 2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lang="en-US" sz="4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2NaOH + 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08760" y="17524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89280" y="1752480"/>
            <a:ext cx="115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208960" y="1752480"/>
            <a:ext cx="66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856920" y="175248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02640" y="25146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8080" y="2514600"/>
            <a:ext cx="259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ula uni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198960" y="2514600"/>
            <a:ext cx="135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492800" y="251460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255640" y="25146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558400" y="2514600"/>
            <a:ext cx="168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7320960" y="2514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94040" y="1752480"/>
            <a:ext cx="77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3656880" y="17524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035240" y="1752480"/>
            <a:ext cx="183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5867280" y="175248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it different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hydrogen and 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oxygen form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z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hydrogen and 1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oxygen form 2 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.0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hydrogen and 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oxygen form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water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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oefficients tell us how many moles of each ki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1"/>
          <p:cNvSpPr/>
          <p:nvPr/>
        </p:nvSpPr>
        <p:spPr>
          <a:xfrm>
            <a:off x="5617800" y="5621400"/>
            <a:ext cx="296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react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4952880" y="5486400"/>
            <a:ext cx="3886200" cy="914400"/>
          </a:xfrm>
          <a:custGeom>
            <a:avLst/>
            <a:gdLst>
              <a:gd name="textAreaLeft" fmla="*/ 887040 w 3886200"/>
              <a:gd name="textAreaRight" fmla="*/ 2999160 w 3886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5541120" y="5621400"/>
            <a:ext cx="31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36.04 g react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m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aw of conservation of mass app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can check using mo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754200" y="348768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2895480" y="3286080"/>
            <a:ext cx="2289240" cy="982440"/>
            <a:chOff x="2895480" y="3286080"/>
            <a:chExt cx="2289240" cy="982440"/>
          </a:xfrm>
        </p:grpSpPr>
        <p:grpSp>
          <p:nvGrpSpPr>
            <p:cNvPr id="192" name="Group 7"/>
            <p:cNvGrpSpPr/>
            <p:nvPr/>
          </p:nvGrpSpPr>
          <p:grpSpPr>
            <a:xfrm>
              <a:off x="4981680" y="3286080"/>
              <a:ext cx="203040" cy="982440"/>
              <a:chOff x="4981680" y="3286080"/>
              <a:chExt cx="203040" cy="982440"/>
            </a:xfrm>
          </p:grpSpPr>
          <p:sp>
            <p:nvSpPr>
              <p:cNvPr id="193" name="Arc 5"/>
              <p:cNvSpPr/>
              <p:nvPr/>
            </p:nvSpPr>
            <p:spPr>
              <a:xfrm rot="10800000">
                <a:off x="4983120" y="374472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Arc 6"/>
              <p:cNvSpPr/>
              <p:nvPr/>
            </p:nvSpPr>
            <p:spPr>
              <a:xfrm>
                <a:off x="4981680" y="3286080"/>
                <a:ext cx="203040" cy="5256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0"/>
            <p:cNvGrpSpPr/>
            <p:nvPr/>
          </p:nvGrpSpPr>
          <p:grpSpPr>
            <a:xfrm>
              <a:off x="2895480" y="3287880"/>
              <a:ext cx="204840" cy="980640"/>
              <a:chOff x="2895480" y="3287880"/>
              <a:chExt cx="204840" cy="980640"/>
            </a:xfrm>
          </p:grpSpPr>
          <p:sp>
            <p:nvSpPr>
              <p:cNvPr id="196" name="Arc 8"/>
              <p:cNvSpPr/>
              <p:nvPr/>
            </p:nvSpPr>
            <p:spPr>
              <a:xfrm rot="10800000">
                <a:off x="2895480" y="374472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Arc 9"/>
              <p:cNvSpPr/>
              <p:nvPr/>
            </p:nvSpPr>
            <p:spPr>
              <a:xfrm>
                <a:off x="2897280" y="3287880"/>
                <a:ext cx="20304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11"/>
            <p:cNvSpPr/>
            <p:nvPr/>
          </p:nvSpPr>
          <p:spPr>
            <a:xfrm>
              <a:off x="3164040" y="3776760"/>
              <a:ext cx="1749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036600" y="3170160"/>
            <a:ext cx="1719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02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963880" y="378000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5164560" y="348768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703480" y="3487680"/>
            <a:ext cx="1719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.04 g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677880" y="493560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4" name="Group 25"/>
          <p:cNvGrpSpPr/>
          <p:nvPr/>
        </p:nvGrpSpPr>
        <p:grpSpPr>
          <a:xfrm>
            <a:off x="2819520" y="4734000"/>
            <a:ext cx="2288880" cy="982080"/>
            <a:chOff x="2819520" y="4734000"/>
            <a:chExt cx="2288880" cy="982080"/>
          </a:xfrm>
        </p:grpSpPr>
        <p:grpSp>
          <p:nvGrpSpPr>
            <p:cNvPr id="205" name="Group 20"/>
            <p:cNvGrpSpPr/>
            <p:nvPr/>
          </p:nvGrpSpPr>
          <p:grpSpPr>
            <a:xfrm>
              <a:off x="4905360" y="4734000"/>
              <a:ext cx="203040" cy="982080"/>
              <a:chOff x="4905360" y="4734000"/>
              <a:chExt cx="203040" cy="982080"/>
            </a:xfrm>
          </p:grpSpPr>
          <p:sp>
            <p:nvSpPr>
              <p:cNvPr id="206" name="Arc 18"/>
              <p:cNvSpPr/>
              <p:nvPr/>
            </p:nvSpPr>
            <p:spPr>
              <a:xfrm rot="10800000">
                <a:off x="4906800" y="519228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Arc 19"/>
              <p:cNvSpPr/>
              <p:nvPr/>
            </p:nvSpPr>
            <p:spPr>
              <a:xfrm>
                <a:off x="4905360" y="4734000"/>
                <a:ext cx="203040" cy="52524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3"/>
            <p:cNvGrpSpPr/>
            <p:nvPr/>
          </p:nvGrpSpPr>
          <p:grpSpPr>
            <a:xfrm>
              <a:off x="2819520" y="4735440"/>
              <a:ext cx="204840" cy="980640"/>
              <a:chOff x="2819520" y="4735440"/>
              <a:chExt cx="204840" cy="980640"/>
            </a:xfrm>
          </p:grpSpPr>
          <p:sp>
            <p:nvSpPr>
              <p:cNvPr id="209" name="Arc 21"/>
              <p:cNvSpPr/>
              <p:nvPr/>
            </p:nvSpPr>
            <p:spPr>
              <a:xfrm rot="10800000">
                <a:off x="2819520" y="5192280"/>
                <a:ext cx="201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Arc 22"/>
              <p:cNvSpPr/>
              <p:nvPr/>
            </p:nvSpPr>
            <p:spPr>
              <a:xfrm>
                <a:off x="2820960" y="4735440"/>
                <a:ext cx="2034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Line 24"/>
            <p:cNvSpPr/>
            <p:nvPr/>
          </p:nvSpPr>
          <p:spPr>
            <a:xfrm>
              <a:off x="3087720" y="5224320"/>
              <a:ext cx="1749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2" name="Rectangle 26"/>
          <p:cNvSpPr/>
          <p:nvPr/>
        </p:nvSpPr>
        <p:spPr>
          <a:xfrm>
            <a:off x="2959920" y="461808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.00 g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2887560" y="522756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s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5088600" y="493560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5626800" y="4935600"/>
            <a:ext cx="192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.00 g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5486400" y="5529240"/>
            <a:ext cx="2017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erms of m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53840" y="2496960"/>
            <a:ext cx="2303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moles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3200040" y="2295360"/>
            <a:ext cx="2594160" cy="982440"/>
            <a:chOff x="3200040" y="2295360"/>
            <a:chExt cx="2594160" cy="982440"/>
          </a:xfrm>
        </p:grpSpPr>
        <p:grpSp>
          <p:nvGrpSpPr>
            <p:cNvPr id="221" name="Group 7"/>
            <p:cNvGrpSpPr/>
            <p:nvPr/>
          </p:nvGrpSpPr>
          <p:grpSpPr>
            <a:xfrm>
              <a:off x="5564160" y="2295360"/>
              <a:ext cx="230040" cy="982440"/>
              <a:chOff x="5564160" y="2295360"/>
              <a:chExt cx="230040" cy="982440"/>
            </a:xfrm>
          </p:grpSpPr>
          <p:sp>
            <p:nvSpPr>
              <p:cNvPr id="222" name="Arc 5"/>
              <p:cNvSpPr/>
              <p:nvPr/>
            </p:nvSpPr>
            <p:spPr>
              <a:xfrm rot="10800000">
                <a:off x="5565240" y="2754000"/>
                <a:ext cx="228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3" name="Arc 6"/>
              <p:cNvSpPr/>
              <p:nvPr/>
            </p:nvSpPr>
            <p:spPr>
              <a:xfrm>
                <a:off x="5564160" y="2295360"/>
                <a:ext cx="230040" cy="5256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0"/>
            <p:cNvGrpSpPr/>
            <p:nvPr/>
          </p:nvGrpSpPr>
          <p:grpSpPr>
            <a:xfrm>
              <a:off x="3200040" y="2297160"/>
              <a:ext cx="232200" cy="980640"/>
              <a:chOff x="3200040" y="2297160"/>
              <a:chExt cx="232200" cy="980640"/>
            </a:xfrm>
          </p:grpSpPr>
          <p:sp>
            <p:nvSpPr>
              <p:cNvPr id="225" name="Arc 8"/>
              <p:cNvSpPr/>
              <p:nvPr/>
            </p:nvSpPr>
            <p:spPr>
              <a:xfrm rot="10800000">
                <a:off x="3200040" y="2754000"/>
                <a:ext cx="2286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" name="Arc 9"/>
              <p:cNvSpPr/>
              <p:nvPr/>
            </p:nvSpPr>
            <p:spPr>
              <a:xfrm>
                <a:off x="3201840" y="2297160"/>
                <a:ext cx="230400" cy="523800"/>
              </a:xfrm>
              <a:prstGeom prst="pie">
                <a:avLst/>
              </a:pr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Line 11"/>
            <p:cNvSpPr/>
            <p:nvPr/>
          </p:nvSpPr>
          <p:spPr>
            <a:xfrm>
              <a:off x="3505320" y="2786040"/>
              <a:ext cx="198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3344400" y="217980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02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269520" y="2789280"/>
            <a:ext cx="214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mole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774400" y="249696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163920" y="242100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2761560" y="3668760"/>
            <a:ext cx="34394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161000" y="4572000"/>
            <a:ext cx="3135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(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4250160" y="4668840"/>
            <a:ext cx="41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5173200" y="4668840"/>
            <a:ext cx="224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04 g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Thomas V. Green Jr.</dc:creator>
  <dc:description/>
  <dc:language>en-US</dc:language>
  <cp:lastModifiedBy>jluckey</cp:lastModifiedBy>
  <cp:lastPrinted>1998-01-05T03:22:32Z</cp:lastPrinted>
  <dcterms:modified xsi:type="dcterms:W3CDTF">2011-04-17T11:46:26Z</dcterms:modified>
  <cp:revision>77</cp:revision>
  <dc:subject/>
  <dc:title>Chapter 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